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AB39-46F2-4FC4-AC50-84E832CEB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8EF0-EE09-4868-A330-3D360090B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4AD3-ED6D-4D27-8ECE-8938AD0BA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087-19BA-40FA-B9CC-E3DFAE44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4A4-FEB1-43EA-9AAC-54835514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AC5-5548-460E-B29D-7B9AE328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740-BF65-42EA-AD60-10D777D2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E5E-58E1-4342-829E-0F697B56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0FD0-EF84-4A62-9730-3921F22A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0B7-4016-4577-90E6-A9A97AF1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52C-9602-405A-951C-63BECF36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90D-122F-4CBB-8E8D-F84BB972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B0F-5E86-4009-9C34-3FA15CDA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54A-0BB7-4F7E-9BFB-59C86E6D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B1DF-D79A-479F-BFDE-2224245C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18F7-DAEA-4EBD-AA72-F6EBE4939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able 3" descr=""/>
          <p:cNvPicPr/>
          <p:nvPr/>
        </p:nvPicPr>
        <p:blipFill>
          <a:blip r:embed="rId1"/>
          <a:stretch/>
        </p:blipFill>
        <p:spPr>
          <a:xfrm>
            <a:off x="158760" y="1073160"/>
            <a:ext cx="8832960" cy="5321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304920" y="23076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blem Statement 1: We want to create a nutritious alternative to the current snack foods in San Pab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28600" y="6396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Scale: 1 (worst) – 10 (best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All totals out of 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04920" y="41400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blem Statement 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need a way to distribute our pro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28600" y="6396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Scale: 1 (worst) – 10 (best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All totals out of 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Table 4" descr=""/>
          <p:cNvPicPr/>
          <p:nvPr/>
        </p:nvPicPr>
        <p:blipFill>
          <a:blip r:embed="rId1"/>
          <a:stretch/>
        </p:blipFill>
        <p:spPr>
          <a:xfrm>
            <a:off x="231840" y="1146240"/>
            <a:ext cx="85280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1:15:52Z</dcterms:created>
  <dc:creator>ts</dc:creator>
  <dc:description/>
  <dc:language>en-US</dc:language>
  <cp:lastModifiedBy>ts</cp:lastModifiedBy>
  <dcterms:modified xsi:type="dcterms:W3CDTF">2011-01-21T01:31:04Z</dcterms:modified>
  <cp:revision>3</cp:revision>
  <dc:subject/>
  <dc:title>Slide 1</dc:title>
</cp:coreProperties>
</file>